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8.gif" ContentType="image/gif"/>
  <Override PartName="/ppt/media/image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9DBBB5-C945-4853-B895-12CAF9E28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508C1B-9D0D-4EEA-9E5A-969B9532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5154EF-AB71-4C21-A2E4-458A47AEB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128ABD-0D26-4B78-9059-026A0A6F9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E7B230-A272-4E03-AD41-CA49C2AA0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AE1760-5B32-4A41-ADF5-1DC88A6F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the participants to complete the statement:  "What's important about parallel tasks is …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complete on a sticky and post on the door as they le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683D65-692B-43DB-A143-6AEDD258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FF29D0-B733-448F-9E46-B011A5F1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BE740E-547E-442B-AAAA-D813F4D0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62B5BC-DD3D-4D6A-9474-FFFFCC56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635B3E-19BD-42F2-9C47-67D982A3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BF9472-EE04-43F5-9051-E50CA8A3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4384EF-75CF-4209-8347-8D72C1227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F4452A-EFCA-4B80-BC0D-0DCB9F281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BE2-29E9-4933-AB9B-C5D62DC6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113-43C0-429D-AFD1-7BB6FD5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DE4-1C24-4794-804A-6CAFEDCA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4E8-3032-46E9-9705-7CEEF1B1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015-B8DA-46B0-A6EC-3E928EE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62A5-4EC0-45E9-8570-11CE6171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FD79-B95F-485D-87B1-3EFEC6D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D3B-E223-46E4-9202-77DEBD6E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B7CE-CC50-468D-B9A5-39073266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1E3F-466A-4466-B99A-23248BD5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CA05-06E3-4D7D-A2EB-9E19CCE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532-C2C0-4DD5-9DF5-9548BBD3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D5C-0CD2-495B-9C88-E994C8E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FD5-DE92-4480-8BC2-F6048BA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DE9E-7F75-43C1-972C-1184C346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066-84AB-45E5-9E98-9B12AB07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DAA3-0F7A-4F05-AA32-C78C74B2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54A-38C5-4E18-B210-626CB24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647-6FF4-40DA-8CC0-35076CA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DD0-2E05-4CE6-B11C-2C69026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4C0-431E-4C18-A371-858D6649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F7E-8613-41DA-9974-FB5DD5C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EC2-F6BF-48D7-A0F4-F1B9688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DE4-84D7-493E-9AF2-040DAD2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8DF5-5A47-4A44-B7E6-C8849B4F0E9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8388360" cy="18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02520" y="13500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7600" y="266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DD73-A9A6-4433-A820-0681B64BAE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85332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15228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43280" y="24120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a/imgres?imgurl=http://www.ti83calculator.net/ti83.jpg&amp;imgrefurl=http://www.ti83calculator.net/&amp;usg=__Uy2lF01SbsJNbCom6Xq3_0bwehY=&amp;h=351&amp;w=225&amp;sz=22&amp;hl=en&amp;start=19&amp;tbnid=1JhiWyS8HNOPrM:&amp;tbnh=120&amp;tbnw=77&amp;prev=/images%3Fq%3DTI%2Bcalculator%26gbv%3D2%26hl%3Den%26sa%3D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5520" y="1989000"/>
            <a:ext cx="6378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90d8"/>
                </a:solidFill>
                <a:latin typeface="Arial"/>
              </a:rPr>
              <a:t>Mathematics</a:t>
            </a:r>
            <a:br>
              <a:rPr sz="3200"/>
            </a:br>
            <a:r>
              <a:rPr b="1" lang="en-US" sz="4800" spc="-1" strike="noStrike">
                <a:solidFill>
                  <a:srgbClr val="20c657"/>
                </a:solidFill>
                <a:latin typeface="Arial"/>
              </a:rPr>
              <a:t>Summer Institute</a:t>
            </a:r>
            <a:br>
              <a:rPr sz="4400"/>
            </a:b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645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b42478"/>
                </a:solidFill>
                <a:latin typeface="Arial"/>
              </a:rPr>
              <a:t>Quadratic &amp; Trigonometric Relationships</a:t>
            </a:r>
            <a:r>
              <a:rPr b="1" lang="en-CA" sz="2800" spc="-1" strike="noStrike">
                <a:solidFill>
                  <a:srgbClr val="21d1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3640" y="50706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90d8"/>
                </a:solidFill>
                <a:latin typeface="Arial"/>
              </a:rPr>
              <a:t>Sessions 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6280" y="1904760"/>
            <a:ext cx="78595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would the function change if the given point (-1, 5) changed to (-1, -5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8BB-CEFE-4137-8F0B-28A932EDDB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Parallel Task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a group with others working on the sa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mplete the task by selecting one of the questions and then prompt each other using the follow-up question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atch the parallel task to a big idea and then find all the expectations that are addressed by the two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CDE-BB1C-4B98-9ACB-3E82941DD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8400" y="169992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"/>
              </a:rPr>
              <a:t>Break Tim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– 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alk the Walk &amp;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670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5B0-22EC-48B1-BE4A-CE533C780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520" y="495468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rd your thinking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EEC-2F77-46B0-A065-9DB7F54B3A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…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Form teams of three (walker, calculator operator, CBR manag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Select one of the walks pictured or create your own.  See BLM 3.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scuss and record how you will “Walk the Walk”  to make the graph and use this knowledge to create a similar graph with a graphing calculator and a CB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7A9-D170-474A-9A4F-011A23E3F1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8144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4836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60684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BA4-BC2E-4680-805D-4FF6154F94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0E4-6722-49AB-8506-343110C07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F20-B6B8-45B9-96F5-8E3CEB79B0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EEB-D915-41A1-9F30-052A3C742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539640" y="981000"/>
            <a:ext cx="820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Modeling in a </a:t>
            </a:r>
            <a:br>
              <a:rPr sz="4800"/>
            </a:b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3E7-78E3-42C9-B2C8-F4F1626F49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4DA-7C46-49AB-A45D-ED3B88637A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- Exit Card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your exit card, complete each of the following stat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1. "It's important to help students m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connections among the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representations of functions because …"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CA" sz="2800" spc="-1" strike="noStrike">
                <a:solidFill>
                  <a:srgbClr val="2490d8"/>
                </a:solidFill>
                <a:latin typeface="Verdana"/>
              </a:rPr>
              <a:t>2.  "What's important about parallel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90d8"/>
                </a:solidFill>
                <a:latin typeface="Verdana"/>
              </a:rPr>
              <a:t>        </a:t>
            </a:r>
            <a:r>
              <a:rPr b="0" lang="en-CA" sz="2800" spc="-1" strike="noStrike">
                <a:solidFill>
                  <a:srgbClr val="2490d8"/>
                </a:solidFill>
                <a:latin typeface="Verdana"/>
              </a:rPr>
              <a:t>is …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EA2-CD9C-4900-A119-6A998F33E6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5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211640" y="3645000"/>
            <a:ext cx="1857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lease fill in your exit card and hand it in to me as you leave!</a:t>
            </a:r>
            <a:r>
              <a:rPr b="0" lang="en-CA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1DA-BBF2-4741-913C-31CAB5DD47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9A1-9A84-4EA1-86AD-A0312D0A8D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1d15c"/>
                </a:solidFill>
                <a:latin typeface="Arial"/>
              </a:rPr>
              <a:t>Minds 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–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etermine the equation of a function with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2B6-4CE8-4732-9B24-493282ABC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draw a 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use algeb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ich did you do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A3C-3D77-40D5-9160-1DE8D617E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Could you have predicted whether the ‘a’ value was positive or negative before you actually calcula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A1A-40B3-44FE-8407-893C9097C9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s the value of ‘a’ what you exp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3CC-7805-42F7-B407-DB7543013A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need all three pieces of inform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y?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07B-F054-407C-9D77-B2852D57D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did you determin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82F-619C-453F-9027-9F87AEECD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33:56Z</dcterms:created>
  <dc:creator>Myrna Ingalls</dc:creator>
  <dc:description/>
  <dc:language>en-US</dc:language>
  <cp:lastModifiedBy>Peel District School Board</cp:lastModifiedBy>
  <dcterms:modified xsi:type="dcterms:W3CDTF">2009-08-26T21:29:57Z</dcterms:modified>
  <cp:revision>155</cp:revision>
  <dc:subject/>
  <dc:title>OAME Leadership</dc:title>
</cp:coreProperties>
</file>